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9F6D-71C8-4124-8E0B-E64D32E67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28E7-C218-407A-AEEB-53FE9BDFD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C39D-E8C2-40E5-B437-A2A5CF479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1572-D17D-4DC1-ABD8-6F16B1F66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2F47-DAB8-4B7E-9A86-9312EAADF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6A57-DDBA-4309-9F4F-F780664E8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2BDD-7679-493D-9DBF-C7D2550AF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643B-2677-402A-A5EA-AC45326D8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6EA1-309A-4454-A3BB-4A717FEAB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A65D-6422-4A25-AF3F-935FD8FA5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4F10-0E2C-44E2-A72F-78C3D115A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7F3E-4FBB-4C09-81E4-5DC073845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8C7F-CC3A-4356-9985-0337ECDA6F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BCBE-AA98-43E0-AE0A-A6427A66F8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162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Text Box 3" descr=""/>
          <p:cNvPicPr/>
          <p:nvPr/>
        </p:nvPicPr>
        <p:blipFill>
          <a:blip r:embed="rId1"/>
          <a:stretch/>
        </p:blipFill>
        <p:spPr>
          <a:xfrm>
            <a:off x="212760" y="1189080"/>
            <a:ext cx="87915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4908-069D-44AD-B4EA-2FE6BA37225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5520" y="1057320"/>
            <a:ext cx="898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“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n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we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prescurtat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) este o publicaţie web ce conţine articole periodice, ce au de obicei caracter personal - asemenea unui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jurna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fiind afişate în ordine cronologică invers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copul blogurilor variază foarte mult, de la jurnale personale la arme ale campaniilor politice, ale programelor media sau ale diferitelor companii. De asemenea, ele variază şi în funcţie de autor - de la unul singur la o comunitate întreag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Multe webloguri permit vizitatorilor să lase comentarii publice, care pot crea o comunitate de cititori centrată în jurul blogului; altele nu sunt interactive (sunt private).”(http://ro.wikipedia.org/wiki/Weblo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162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418-B63B-45F4-B8BD-B85ECEB919D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63600" y="446040"/>
            <a:ext cx="65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Text Box 3" descr=""/>
          <p:cNvPicPr/>
          <p:nvPr/>
        </p:nvPicPr>
        <p:blipFill>
          <a:blip r:embed="rId1"/>
          <a:stretch/>
        </p:blipFill>
        <p:spPr>
          <a:xfrm>
            <a:off x="201600" y="365040"/>
            <a:ext cx="8618400" cy="1506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90520" y="2244600"/>
            <a:ext cx="779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TUTORIAL =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dusul în care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rumu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utilizatorului este controlat pentru formarea unor deprinderi după o strategie stabilită de proiectantul produ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Text Box 5" descr=""/>
          <p:cNvPicPr/>
          <p:nvPr/>
        </p:nvPicPr>
        <p:blipFill>
          <a:blip r:embed="rId2"/>
          <a:stretch/>
        </p:blipFill>
        <p:spPr>
          <a:xfrm>
            <a:off x="237960" y="3713040"/>
            <a:ext cx="8498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8143-5C05-4D14-9686-7248485ADFD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0280" y="176040"/>
            <a:ext cx="85201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VANTAJELE INTEGRĂRII ÎN PROIECT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gregarea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co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ţinutulu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&gt;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capacitatea de a integra mai multe fragmente de conţinut într-o interfaţ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uri de vizualizare personaliz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onţinut personaliz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Facilităţi de colabor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Localizarea resursel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Independenţa de platform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ezvoltare modular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36680" y="4405320"/>
            <a:ext cx="832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Observaţie</a:t>
            </a:r>
            <a:r>
              <a:rPr b="1" i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Wiki, blog.. pot deveni portofolii digitale sau spaţii de lucru în grup, permiţând păstrarea legăturii şi după terminarea cur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3" descr=""/>
          <p:cNvPicPr/>
          <p:nvPr/>
        </p:nvPicPr>
        <p:blipFill>
          <a:blip r:embed="rId1"/>
          <a:stretch/>
        </p:blipFill>
        <p:spPr>
          <a:xfrm>
            <a:off x="255600" y="171360"/>
            <a:ext cx="8443800" cy="99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 descriere a Web 2.0 s-ar putea face prin urmatoarele caracteristic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clude o paleta foarte larga de aplicatii si servicii care folosesc Web-ul ca platforma unitara si organizata de comunicar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te construit pe baza unei arhitecturi care încurajeaza participarea activa a utilizatori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rmite interactiunea facila între utilizatorii care au aceleasi interes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este puterea comunitatilor de internaut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dica o schimbare de paradigma în ceea ce priveste Web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0FB5-E6D3-481F-AB6B-E4CD9B2416B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65040" y="291600"/>
            <a:ext cx="82375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fera utilizatorilor posibilitatea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produce continut, de a-l partaja cu altii, deci o mai puternica interactivita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experienta mult mai apropiata de aplicatiile desktop, cu interfete grafice intuitive, placute, programabile si, mai ales, transparen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aciliteaza accesul public la baze de date, prin API-ur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re abilitatea de a conecta între ele diverse aplicatii sau servic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socializa informatia - un concept despre aplicatii si oameni; aparitia instrumentelor colaborative de genul wiki-urilor, a platformelor de socializare ca MySpace, Hi5, LinkedIn sau Second Life, a blogurilor, a structurilor de comunicare de date si documente, a colectiilor de bookmarkuri ( ca del.icio.us sau digg ), de clipuri video ( YouTube ) sau de imagini ( flickr ) etc.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sterea uzabilitatii - îmbunatatirea experientei utilizatorilor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mocratizarea continutului si distributia acestuia (continut creat de utilizator si distribuit lib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604-A659-46D6-9DB7-BC997A7A756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user</cp:lastModifiedBy>
  <cp:lastPrinted>2006-11-14T00:45:04Z</cp:lastPrinted>
  <dcterms:modified xsi:type="dcterms:W3CDTF">2010-12-03T21:21:47Z</dcterms:modified>
  <cp:revision>226</cp:revision>
  <dc:subject/>
  <dc:title>Presentation Title Goes Here</dc:title>
</cp:coreProperties>
</file>